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16.jpeg" ContentType="image/jpeg"/>
  <Override PartName="/ppt/media/image15.png" ContentType="image/png"/>
  <Override PartName="/ppt/media/image17.png" ContentType="image/png"/>
  <Override PartName="/ppt/media/image14.gif" ContentType="image/gif"/>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DE44D-4761-4254-A144-6672FAA14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970B-5EA7-47BA-A680-AEB24DF28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10BA3-7CF9-484D-8DE3-B8C0B4640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5E963-3127-469A-9B1B-6A32B08B8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70CC1-55DD-40B7-8D71-A316D6805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36C39-A472-4798-9598-7CDEAC443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E6CF7-4743-4E1F-A985-DA5F252DC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28716-482B-4AB9-94E1-46FB646F3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7454C-04D8-4DE4-94B3-2DCF85412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5DF36-DC0B-4474-9F92-598507E4A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A56AF-FD38-4460-89EC-C1A07C20F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AD9D4-3936-4FD6-88E9-0FB0C9CD4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A9062-EAF3-430A-A10C-80D2E28A4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76CA6-4A07-41FF-A421-FE8E32AF8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8C215-7AC9-4FE3-B5D6-172E96AE4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BB801-2063-4745-BFD2-6C0FAF3A7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5685E-1254-4B70-9D66-0019291C7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465FB6-3DE3-4FDF-9A88-57119A84F2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524834-57FE-43A6-B1A0-D2A64E430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474909-0FE3-4745-B8D6-2E5C5A1BC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63F6CA-9F35-4F29-8506-D78B987A6D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96C691-5C99-4C18-B929-92911551B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43974-7399-4066-A48D-1E593C0E2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89F491-E85F-4BE8-ADD2-F93A2E748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160E9-6AA1-44CC-B331-F4EF8F8B2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38834-469C-45BB-9BE0-695146B0C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F6EC4-9810-49F6-8262-89018F465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B330E1-C647-43D5-9376-E7952B55D0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BB20C6-718A-4307-8F01-C9B54332E6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A08331-404A-450E-96AB-30E27F11C2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E9DDDD-8FC8-4987-8872-0B983797A6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9D36AC-0431-489F-9F5E-66652CAE6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643CC2-D0C6-4B0C-A10C-03E8CCB6F7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EFA67-06AF-47FC-BA7C-9CDD8DD24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034BC-AF2B-464D-8B06-736C182CB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F30C57-C46C-4F4E-A3E5-EB14621AA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10597-A279-4826-9805-CB8697BFAF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CBAF99-6A22-400A-9267-39AAC7749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C364A-99DD-4C3C-A5BA-B85D32055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AD88F-FED7-4DAD-9EA0-64188967A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B35CF-7112-44E6-9071-83196B4BD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41A317-8C6F-4FA6-8326-A7A5429704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46DB5-4815-40BE-BF9D-4C26EE97C1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BAC86A-84A1-4183-A5A9-EC9480A87F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23E39-AE74-47E9-B4ED-8D11ED9FE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539A72-9A2E-4F32-AB24-A5DBAE3BD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95EB0-BA4B-4D6C-A09E-446205BB37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49DA4C-CC2C-4921-9C6A-0628BAF9CD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D3EB4B-EAA4-464E-AD0A-D0A0C1A4C7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490968-B6E2-4F27-81D1-6CBC1658A5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D41A3-5582-4CE6-96E5-BC5D231B9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EC64E0-91FA-4B47-BA27-DADEA083F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8DFB2-E3E2-44DA-9DE5-06CA4C4A2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5FD7F1-DB49-498B-AFA0-A3C5B270C1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F5732B-528C-46CA-B489-2DC9E50628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0A49F-6383-4079-98B6-8515E2911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88C5BA-5587-4345-B497-AB7A877DDB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D60FBB-5DA4-4DAB-BB1D-7DB303AFC3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10EF56-8BB3-4E4C-A620-37D55D4E87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30C0E1-8D03-4F99-B7A2-2265F8313A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93D4F-51BA-4723-95B7-EF176F9D47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8F35E-C0A0-4933-AE15-C79BC5237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59B886-78F5-42EA-B895-DF6E796497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CF5282-D218-4767-B5E0-439DD5CF0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6C423-8E2C-4B1F-9953-A92133952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BF9F03-F91A-49C6-BDF5-70B26036B1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7026-6055-4C66-81C0-D5849EB85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4E9DC4-ABE5-47FD-ADF4-F18D40C75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B66A55-52AB-40C2-980F-DE4F7A14E7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D577B2-DE11-4C1F-B2E4-95DD84A625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CF7B02-5A74-4B7A-A7EF-EDFF60C155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AD23FC-ED92-486C-BC7F-C72028FB7D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0F1BF4-330F-4F2C-AE90-AF675A720C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D5A7CE-C018-4EFE-B992-F1D729AC05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B922AF-98AA-4EAB-A5E8-B003F8B058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43A994-E260-4CDB-A039-018DE10B44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E17CF-3886-4661-B5C2-A5EB032D89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58F18-C158-4B1E-BCA9-448317C05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717653-1AB1-46E0-8D80-B3BC7CD68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86F4C-4EDA-4E66-BC19-DAAE8C00E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95658C-99B5-4489-A790-FFCF0D5E97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AEA828-2764-436B-8F83-78092C827B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0442BB-EFEC-48EC-86AC-C24B7F4149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0717-86D7-4BAA-BB08-F91D1CA16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02D1C-E8AC-4FE2-9A26-4C0FCED92602}"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6E0F3-1D0F-4D9D-983E-3A8144B0C9D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5" name="Oval 12"/>
          <p:cNvGrpSpPr/>
          <p:nvPr/>
        </p:nvGrpSpPr>
        <p:grpSpPr>
          <a:xfrm>
            <a:off x="914400" y="1401840"/>
            <a:ext cx="225360" cy="231840"/>
            <a:chOff x="914400" y="1401840"/>
            <a:chExt cx="225360" cy="231840"/>
          </a:xfrm>
        </p:grpSpPr>
        <p:pic>
          <p:nvPicPr>
            <p:cNvPr id="56" name="Oval 12" descr=""/>
            <p:cNvPicPr/>
            <p:nvPr/>
          </p:nvPicPr>
          <p:blipFill>
            <a:blip r:embed="rId4"/>
            <a:stretch/>
          </p:blipFill>
          <p:spPr>
            <a:xfrm>
              <a:off x="914400" y="1401840"/>
              <a:ext cx="225360" cy="23184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D234A-F004-4B0D-A436-5F6D6080395C}"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9E7FC-59CB-4C14-9410-B7C868A3E76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Oval 15"/>
          <p:cNvGrpSpPr/>
          <p:nvPr/>
        </p:nvGrpSpPr>
        <p:grpSpPr>
          <a:xfrm>
            <a:off x="2163600" y="2803680"/>
            <a:ext cx="225720" cy="231480"/>
            <a:chOff x="2163600" y="2803680"/>
            <a:chExt cx="225720" cy="231480"/>
          </a:xfrm>
        </p:grpSpPr>
        <p:pic>
          <p:nvPicPr>
            <p:cNvPr id="103" name="Oval 15" descr=""/>
            <p:cNvPicPr/>
            <p:nvPr/>
          </p:nvPicPr>
          <p:blipFill>
            <a:blip r:embed="rId3"/>
            <a:stretch/>
          </p:blipFill>
          <p:spPr>
            <a:xfrm>
              <a:off x="2163600" y="2803680"/>
              <a:ext cx="225720" cy="23148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9B36D-7775-4DDC-B626-2BEFD11D45F2}"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16E17-B048-461F-A294-3A2311B9682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B2584-AE9B-4FDF-A405-ECF966256CF0}"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1BAEF-A301-4CA5-BD6F-70B193F738F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9E3C0-A2B8-4B7D-9F55-5DC59C9A690F}"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1F6AA-43B5-4C96-9637-C2784C6F599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DD211-2F1F-48A0-9399-B9B93D496FDF}"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CBFC3-A5D1-4E98-BD79-C446E7B26C7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797360" cy="4797720"/>
            <a:chOff x="646200" y="969840"/>
            <a:chExt cx="4797360" cy="4797720"/>
          </a:xfrm>
        </p:grpSpPr>
        <p:pic>
          <p:nvPicPr>
            <p:cNvPr id="273" name="Rectangle 12" descr=""/>
            <p:cNvPicPr/>
            <p:nvPr/>
          </p:nvPicPr>
          <p:blipFill>
            <a:blip r:embed="rId3"/>
            <a:stretch/>
          </p:blipFill>
          <p:spPr>
            <a:xfrm>
              <a:off x="646200" y="969840"/>
              <a:ext cx="4797360" cy="479772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75"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6"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866C6-D8CE-44A8-9A35-8D2DEA9FC2C4}"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4271C-02B6-4CB8-AE3D-AB09567F2A1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Teaching the Concept of</a:t>
            </a:r>
            <a:br>
              <a:rPr sz="4800"/>
            </a:br>
            <a:r>
              <a:rPr b="0" lang="en-US" sz="4800" spc="-1" strike="noStrike">
                <a:solidFill>
                  <a:srgbClr val="572314"/>
                </a:solidFill>
                <a:latin typeface="Gill Sans MT"/>
              </a:rPr>
              <a:t>Protein Synthesis</a:t>
            </a:r>
            <a:br>
              <a:rPr sz="4800"/>
            </a:br>
            <a:r>
              <a:rPr b="0" lang="en-US" sz="2800" spc="-1" strike="noStrike">
                <a:solidFill>
                  <a:srgbClr val="572314"/>
                </a:solidFill>
                <a:latin typeface="Gill Sans MT"/>
              </a:rPr>
              <a:t>Rebecca Lostracco</a:t>
            </a:r>
            <a:br>
              <a:rPr sz="2800"/>
            </a:br>
            <a:r>
              <a:rPr b="0" lang="en-US" sz="2800" spc="-1" strike="noStrike">
                <a:solidFill>
                  <a:srgbClr val="572314"/>
                </a:solidFill>
                <a:latin typeface="Gill Sans MT"/>
              </a:rPr>
              <a:t>Jacqueline McCann</a:t>
            </a:r>
            <a:endParaRPr b="0" lang="en-US" sz="2800" spc="-1" strike="noStrike">
              <a:solidFill>
                <a:srgbClr val="572314"/>
              </a:solidFill>
              <a:latin typeface="Gill Sans MT"/>
            </a:endParaRPr>
          </a:p>
        </p:txBody>
      </p:sp>
      <p:pic>
        <p:nvPicPr>
          <p:cNvPr id="319" name="Picture 3" descr=""/>
          <p:cNvPicPr/>
          <p:nvPr/>
        </p:nvPicPr>
        <p:blipFill>
          <a:blip r:embed="rId2"/>
          <a:stretch/>
        </p:blipFill>
        <p:spPr>
          <a:xfrm>
            <a:off x="2571840" y="2793960"/>
            <a:ext cx="5270400" cy="342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88880" y="280800"/>
            <a:ext cx="740556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olutions to Student Difficulties</a:t>
            </a:r>
            <a:endParaRPr b="0" lang="en-US" sz="4300" spc="-1" strike="noStrike">
              <a:solidFill>
                <a:srgbClr val="572314"/>
              </a:solidFill>
              <a:latin typeface="Gill Sans MT"/>
            </a:endParaRPr>
          </a:p>
        </p:txBody>
      </p:sp>
      <p:sp>
        <p:nvSpPr>
          <p:cNvPr id="346" name="PlaceHolder 2"/>
          <p:cNvSpPr>
            <a:spLocks noGrp="1"/>
          </p:cNvSpPr>
          <p:nvPr>
            <p:ph type="subTitle"/>
          </p:nvPr>
        </p:nvSpPr>
        <p:spPr>
          <a:xfrm>
            <a:off x="1388880" y="1168560"/>
            <a:ext cx="7405560" cy="52178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Role-play activity will help to make concept more concrete</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Students can make their own mnemonic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for remembering stop codon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AU, UAG, UG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ing an anchor chart with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nucleotide bases and their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rresponding amino acid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During role-play activity, emphasize the distinction between mRNA and tRNA by having the students in those groups wear a label</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Create a T-Chart/Venn Diagram to compare roles of DNA &amp; RNA and mRNA &amp; tRN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Model translation in role-play activity slowly and clearly for the student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e students proceed step-by-step, explaining their role in the process</a:t>
            </a:r>
            <a:endParaRPr b="0" lang="en-US" sz="20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47" name="animation.gif" descr="C:\Users\Jackie\Desktop\animation.gif"/>
          <p:cNvPicPr/>
          <p:nvPr/>
        </p:nvPicPr>
        <p:blipFill>
          <a:blip r:embed="rId2"/>
          <a:stretch/>
        </p:blipFill>
        <p:spPr>
          <a:xfrm>
            <a:off x="5419800" y="1968480"/>
            <a:ext cx="2603520" cy="173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31720" y="264600"/>
            <a:ext cx="7407000" cy="91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afety Considerations</a:t>
            </a:r>
            <a:endParaRPr b="0" lang="en-US" sz="4300" spc="-1" strike="noStrike">
              <a:solidFill>
                <a:srgbClr val="572314"/>
              </a:solidFill>
              <a:latin typeface="Gill Sans MT"/>
            </a:endParaRPr>
          </a:p>
        </p:txBody>
      </p:sp>
      <p:sp>
        <p:nvSpPr>
          <p:cNvPr id="349" name="PlaceHolder 2"/>
          <p:cNvSpPr>
            <a:spLocks noGrp="1"/>
          </p:cNvSpPr>
          <p:nvPr>
            <p:ph type="subTitle"/>
          </p:nvPr>
        </p:nvSpPr>
        <p:spPr>
          <a:xfrm>
            <a:off x="1031760" y="1385640"/>
            <a:ext cx="8112240" cy="449892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his unit includes a virtual lab, which makes the main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afety concern appropriate internet conduct</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o safely implement the role-pla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ctivity, the classroom will need to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be free from clutter with space for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to move around</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will be given explicit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structions on the role play activity so the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re aware of the expectations how to execute their role</a:t>
            </a:r>
            <a:endParaRPr b="0" lang="en-US" sz="2600" spc="-1" strike="noStrike">
              <a:solidFill>
                <a:srgbClr val="000000"/>
              </a:solidFill>
              <a:latin typeface="Gill Sans MT"/>
            </a:endParaRPr>
          </a:p>
        </p:txBody>
      </p:sp>
      <p:pic>
        <p:nvPicPr>
          <p:cNvPr id="350" name="Picture 2" descr="http://www.metrolic.com/wp-content/uploads/2010/08/safety.gif"/>
          <p:cNvPicPr/>
          <p:nvPr/>
        </p:nvPicPr>
        <p:blipFill>
          <a:blip r:embed="rId2"/>
          <a:stretch/>
        </p:blipFill>
        <p:spPr>
          <a:xfrm>
            <a:off x="6238800" y="2292480"/>
            <a:ext cx="215748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Gill Sans MT"/>
              </a:rPr>
              <a:t>Practical Applications</a:t>
            </a:r>
            <a:endParaRPr b="0" lang="en-US" sz="4200" spc="-1" strike="noStrike">
              <a:solidFill>
                <a:srgbClr val="000000"/>
              </a:solidFill>
              <a:latin typeface="Arial"/>
            </a:endParaRPr>
          </a:p>
        </p:txBody>
      </p:sp>
      <p:sp>
        <p:nvSpPr>
          <p:cNvPr id="352"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t>
            </a:r>
            <a:r>
              <a:rPr b="0" lang="en-CA" sz="2600" spc="-1" strike="noStrike">
                <a:solidFill>
                  <a:srgbClr val="320e04"/>
                </a:solidFill>
                <a:latin typeface="Gill Sans MT"/>
              </a:rPr>
              <a:t>What makes a Firefly Glow?” </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emonstration of how protein synthesis is involved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 making a firefly glow</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Foods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examples of foods that increase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protein synthesis to support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muscle building</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Exercise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protein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ynthesis in relation to exercise</a:t>
            </a:r>
            <a:endParaRPr b="0" lang="en-US" sz="2600" spc="-1" strike="noStrike">
              <a:solidFill>
                <a:srgbClr val="000000"/>
              </a:solidFill>
              <a:latin typeface="Arial"/>
            </a:endParaRPr>
          </a:p>
        </p:txBody>
      </p:sp>
      <p:pic>
        <p:nvPicPr>
          <p:cNvPr id="353" name="Picture 4" descr="http://www.firefly.org/images/pictures/firefly-closeup.jpg"/>
          <p:cNvPicPr/>
          <p:nvPr/>
        </p:nvPicPr>
        <p:blipFill>
          <a:blip r:embed="rId2"/>
          <a:stretch/>
        </p:blipFill>
        <p:spPr>
          <a:xfrm>
            <a:off x="6719760" y="414360"/>
            <a:ext cx="2119320" cy="1457280"/>
          </a:xfrm>
          <a:prstGeom prst="rect">
            <a:avLst/>
          </a:prstGeom>
          <a:ln w="0">
            <a:noFill/>
          </a:ln>
        </p:spPr>
      </p:pic>
      <p:pic>
        <p:nvPicPr>
          <p:cNvPr id="354" name="Picture 6" descr="http://crossfitoneworld.typepad.com/.a/6a00d8341bf90553ef0133ed23234d970b-800wi"/>
          <p:cNvPicPr/>
          <p:nvPr/>
        </p:nvPicPr>
        <p:blipFill>
          <a:blip r:embed="rId3"/>
          <a:stretch/>
        </p:blipFill>
        <p:spPr>
          <a:xfrm>
            <a:off x="6508800" y="3030480"/>
            <a:ext cx="2330280" cy="34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31720" y="145800"/>
            <a:ext cx="7407000" cy="84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Differentiated Assessment</a:t>
            </a:r>
            <a:endParaRPr b="0" lang="en-US" sz="4300" spc="-1" strike="noStrike">
              <a:solidFill>
                <a:srgbClr val="572314"/>
              </a:solidFill>
              <a:latin typeface="Gill Sans MT"/>
            </a:endParaRPr>
          </a:p>
        </p:txBody>
      </p:sp>
      <p:sp>
        <p:nvSpPr>
          <p:cNvPr id="356" name="Subtitle 2"/>
          <p:cNvSpPr/>
          <p:nvPr/>
        </p:nvSpPr>
        <p:spPr>
          <a:xfrm>
            <a:off x="1152360" y="1192320"/>
            <a:ext cx="799164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a choice for their culminating task assessment on protein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ynthesi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poster displaying the process of protein synthesis (Visu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song about the concept of protein synthesis (Music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3-D model showing the main “players” in protein synthesis (Kinesthe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videotaped oral story about the process of protein synthesis (Linguis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journal entry on what they learned about protein synthesis (Intra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esson on protein synthesis that is taught to the class (Inter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ab activity involving transcription of provided DNA nucleotide sequences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into mRNA, splicing of the mRNA, and translation of the mRNA into a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protein (Logical)</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of protein synthesis would also be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evaluated on a unit test</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Formative assessment would be completed based on students’ contributions to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class discussions during role-play and participation in the online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ntroduction to Protein Synthesis</a:t>
            </a:r>
            <a:endParaRPr b="0" lang="en-US" sz="3900" spc="-1" strike="noStrike">
              <a:solidFill>
                <a:srgbClr val="572314"/>
              </a:solidFill>
              <a:latin typeface="Gill Sans MT"/>
            </a:endParaRPr>
          </a:p>
        </p:txBody>
      </p:sp>
      <p:sp>
        <p:nvSpPr>
          <p:cNvPr id="321" name=""/>
          <p:cNvSpPr txBox="1"/>
          <p:nvPr/>
        </p:nvSpPr>
        <p:spPr>
          <a:xfrm>
            <a:off x="1434960" y="1447560"/>
            <a:ext cx="3835440" cy="480060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f you asked any body builder, the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uld tell you that muscles are buil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protein. But have they ever</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ndered how proteins are</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ctually made in our bod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t all starts with one thing: </a:t>
            </a:r>
            <a:r>
              <a:rPr b="0" lang="en-US" sz="2400" spc="-1" strike="noStrike">
                <a:solidFill>
                  <a:srgbClr val="000000"/>
                </a:solidFill>
                <a:latin typeface="Gill Sans MT"/>
              </a:rPr>
              <a:t>DNA!</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ow you just create protein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DNA. Sounds simple, righ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rong!</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o understand this concept, you’ll</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eed to learn about the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ill Sans MT"/>
              </a:rPr>
              <a:t>central dogma</a:t>
            </a:r>
            <a:r>
              <a:rPr b="0" lang="en-US" sz="1900" spc="-1" strike="noStrike">
                <a:solidFill>
                  <a:srgbClr val="000000"/>
                </a:solidFill>
                <a:latin typeface="Gill Sans MT"/>
              </a:rPr>
              <a:t> of transcription</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nd translation. </a:t>
            </a:r>
            <a:endParaRPr b="0" lang="en-US" sz="1900" spc="-1" strike="noStrike">
              <a:solidFill>
                <a:srgbClr val="000000"/>
              </a:solidFill>
              <a:latin typeface="Gill Sans MT"/>
            </a:endParaRPr>
          </a:p>
        </p:txBody>
      </p:sp>
      <p:pic>
        <p:nvPicPr>
          <p:cNvPr id="322" name="Picture 3" descr=""/>
          <p:cNvPicPr/>
          <p:nvPr/>
        </p:nvPicPr>
        <p:blipFill>
          <a:blip r:embed="rId2"/>
          <a:stretch/>
        </p:blipFill>
        <p:spPr>
          <a:xfrm>
            <a:off x="5619600" y="1163520"/>
            <a:ext cx="3524400" cy="5567400"/>
          </a:xfrm>
          <a:prstGeom prst="rect">
            <a:avLst/>
          </a:prstGeom>
          <a:ln w="0">
            <a:noFill/>
          </a:ln>
        </p:spPr>
      </p:pic>
      <p:cxnSp>
        <p:nvCxnSpPr>
          <p:cNvPr id="323" name="Curved Connector 5"/>
          <p:cNvCxnSpPr/>
          <p:nvPr/>
        </p:nvCxnSpPr>
        <p:spPr>
          <a:xfrm flipV="1" rot="16200000">
            <a:off x="3967920" y="4380840"/>
            <a:ext cx="2080440" cy="524160"/>
          </a:xfrm>
          <a:prstGeom prst="curvedConnector5">
            <a:avLst>
              <a:gd name="adj1" fmla="val 74420"/>
              <a:gd name="adj2" fmla="val 49965"/>
              <a:gd name="adj3" fmla="val 74420"/>
            </a:avLst>
          </a:prstGeom>
          <a:ln w="25560">
            <a:solidFill>
              <a:srgbClr val="ff0000"/>
            </a:solidFill>
            <a:miter/>
            <a:tailEnd len="med" type="arrow" w="med"/>
          </a:ln>
        </p:spPr>
      </p:cxnSp>
      <p:sp>
        <p:nvSpPr>
          <p:cNvPr id="324" name="TextBox 31"/>
          <p:cNvSpPr/>
          <p:nvPr/>
        </p:nvSpPr>
        <p:spPr>
          <a:xfrm>
            <a:off x="4282920" y="5602320"/>
            <a:ext cx="156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Really, reall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Impor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sson Sequence</a:t>
            </a:r>
            <a:endParaRPr b="0" lang="en-US" sz="4300" spc="-1" strike="noStrike">
              <a:solidFill>
                <a:srgbClr val="572314"/>
              </a:solidFill>
              <a:latin typeface="Gill Sans MT"/>
            </a:endParaRPr>
          </a:p>
        </p:txBody>
      </p:sp>
      <p:sp>
        <p:nvSpPr>
          <p:cNvPr id="326" name=""/>
          <p:cNvSpPr txBox="1"/>
          <p:nvPr/>
        </p:nvSpPr>
        <p:spPr>
          <a:xfrm>
            <a:off x="1174320" y="1447560"/>
            <a:ext cx="7969320" cy="52038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1: Protein Synthesis:  An Overview</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Central Dogma, RNA, The Genetic Code</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2: Transcrip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itiation, Elongatio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3: Transla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Ribosome, Transfer RNA, Elongation of the Polypeptide Chai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4: Control Mechanism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a:t>
            </a:r>
            <a:r>
              <a:rPr b="0" i="1" lang="en-US" sz="2000" spc="-1" strike="noStrike">
                <a:solidFill>
                  <a:srgbClr val="000000"/>
                </a:solidFill>
                <a:latin typeface="Gill Sans MT"/>
              </a:rPr>
              <a:t>lac</a:t>
            </a:r>
            <a:r>
              <a:rPr b="0" lang="en-US" sz="2000" spc="-1" strike="noStrike">
                <a:solidFill>
                  <a:srgbClr val="000000"/>
                </a:solidFill>
                <a:latin typeface="Gill Sans MT"/>
              </a:rPr>
              <a:t> Operon, the </a:t>
            </a:r>
            <a:r>
              <a:rPr b="0" i="1" lang="en-US" sz="2000" spc="-1" strike="noStrike">
                <a:solidFill>
                  <a:srgbClr val="000000"/>
                </a:solidFill>
                <a:latin typeface="Gill Sans MT"/>
              </a:rPr>
              <a:t>trp</a:t>
            </a:r>
            <a:r>
              <a:rPr b="0" lang="en-US" sz="2000" spc="-1" strike="noStrike">
                <a:solidFill>
                  <a:srgbClr val="000000"/>
                </a:solidFill>
                <a:latin typeface="Gill Sans MT"/>
              </a:rPr>
              <a:t> Oper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5: Mutation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ypes of Mutation, Causes of Mut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6: Differences Between Eukaryotes and Prokaryotes</a:t>
            </a:r>
            <a:endParaRPr b="0" lang="en-US" sz="24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58640" y="282600"/>
            <a:ext cx="740700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Curriculum Expectations</a:t>
            </a:r>
            <a:endParaRPr b="0" lang="en-US" sz="4300" spc="-1" strike="noStrike">
              <a:solidFill>
                <a:srgbClr val="572314"/>
              </a:solidFill>
              <a:latin typeface="Gill Sans MT"/>
            </a:endParaRPr>
          </a:p>
        </p:txBody>
      </p:sp>
      <p:sp>
        <p:nvSpPr>
          <p:cNvPr id="328" name="PlaceHolder 2"/>
          <p:cNvSpPr>
            <a:spLocks noGrp="1"/>
          </p:cNvSpPr>
          <p:nvPr>
            <p:ph type="subTitle"/>
          </p:nvPr>
        </p:nvSpPr>
        <p:spPr>
          <a:xfrm>
            <a:off x="1431720" y="126792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2.4 investigate and analyse the cell component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volved in the 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sing appropriate laboratory equipment and</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0e04"/>
                </a:solidFill>
                <a:latin typeface="Gill Sans MT"/>
              </a:rPr>
              <a:t>techniques, or a computer simulation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2 compare the structures and function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NA and DNA, and explain their roles in the</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3 explain the steps involved in the proces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tein synthesis and how genetic expression 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ntrolled in prokaryotes and eukaryotes by</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egulatory proteins (e.g., the role of operons i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karyotic cells; the mechanism of gene expressio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 eukaryotic cells)</a:t>
            </a:r>
            <a:endParaRPr b="0" lang="en-US" sz="2000" spc="-1" strike="noStrike">
              <a:solidFill>
                <a:srgbClr val="000000"/>
              </a:solidFill>
              <a:latin typeface="Gill Sans MT"/>
            </a:endParaRPr>
          </a:p>
        </p:txBody>
      </p:sp>
      <p:pic>
        <p:nvPicPr>
          <p:cNvPr id="329" name="Picture 3" descr=""/>
          <p:cNvPicPr/>
          <p:nvPr/>
        </p:nvPicPr>
        <p:blipFill>
          <a:blip r:embed="rId2"/>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deo demonstration of Protein Synthesis</a:t>
            </a:r>
            <a:endParaRPr b="0" lang="en-US" sz="2400" spc="-1" strike="noStrike">
              <a:solidFill>
                <a:srgbClr val="000000"/>
              </a:solidFill>
              <a:latin typeface="Gill Sans MT"/>
            </a:endParaRPr>
          </a:p>
        </p:txBody>
      </p:sp>
      <p:pic>
        <p:nvPicPr>
          <p:cNvPr id="332" name="Macintosh HD:Users:rebeccalostracco:Movies:Protein synthesis video.mp4" descr="Macintosh HD:Users:rebeccalostracco:Movies:Protein synthesis video.mp4"/>
          <p:cNvPicPr/>
          <p:nvPr/>
        </p:nvPicPr>
        <p:blipFill>
          <a:blip r:embed="rId2"/>
          <a:stretch/>
        </p:blipFill>
        <p:spPr>
          <a:xfrm>
            <a:off x="2048040" y="192096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32"/>
                    </p:tgtEl>
                  </p:cond>
                </p:stCondLst>
                <p:childTnLst>
                  <p:par>
                    <p:cTn id="3" fill="hold">
                      <p:stCondLst>
                        <p:cond evt="onClick">
                          <p:tgtEl>
                            <p:spTgt spid="33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Virtual Lab</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use an inquiry-based approach to transcribe a DNA molecule into RNA, and then translate the mRNA into a protein</a:t>
            </a:r>
            <a:endParaRPr b="0" lang="en-US" sz="20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interactively learn more about transcription and translation</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ranscription and Translation Virtual Lab</a:t>
            </a:r>
            <a:endParaRPr b="0" lang="en-US" sz="2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pic>
        <p:nvPicPr>
          <p:cNvPr id="335" name="Picture 8" descr="cendogma"/>
          <p:cNvPicPr/>
          <p:nvPr/>
        </p:nvPicPr>
        <p:blipFill>
          <a:blip r:embed="rId2"/>
          <a:stretch/>
        </p:blipFill>
        <p:spPr>
          <a:xfrm>
            <a:off x="2571840" y="3825720"/>
            <a:ext cx="5032440" cy="28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Play</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acher ropes off a designated area as the nucleus where transcription must occur.  The rest of the classroom is the cytoplasm where translation will occur.</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DNA sequences (24 nucleotides in each) </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mRNA sequences</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tRNA anticodons with corresponding amino acids (polypeptide chain)</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pecial learning opportunity messages (Ex. “Ribosomes move along the mRNA in a 5’ to 3’ direction, while reading the coding sequence.”) are posted around the classroom corresponding to amino acid polypeptide chains</a:t>
            </a:r>
            <a:endParaRPr b="0" lang="en-US" sz="1800" spc="-1" strike="noStrike">
              <a:solidFill>
                <a:srgbClr val="000000"/>
              </a:solidFill>
              <a:latin typeface="Gill Sans MT"/>
            </a:endParaRPr>
          </a:p>
        </p:txBody>
      </p:sp>
      <p:pic>
        <p:nvPicPr>
          <p:cNvPr id="338" name="Picture 7" descr=""/>
          <p:cNvPicPr/>
          <p:nvPr/>
        </p:nvPicPr>
        <p:blipFill>
          <a:blip r:embed="rId2"/>
          <a:stretch/>
        </p:blipFill>
        <p:spPr>
          <a:xfrm>
            <a:off x="4145040" y="5302080"/>
            <a:ext cx="3274920" cy="15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40" name=""/>
          <p:cNvSpPr txBox="1"/>
          <p:nvPr/>
        </p:nvSpPr>
        <p:spPr>
          <a:xfrm>
            <a:off x="1434960" y="1447920"/>
            <a:ext cx="7499520" cy="5076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 Play Continued</a:t>
            </a:r>
            <a:endParaRPr b="0" lang="en-US" sz="32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A students and mRNA students remain in nucleus during transcription. After transcription, mRNA students move into cytoplasm, where tRNA students are waiting for translation. </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DNA students begin by writing down the complimentary RNA sequence to their DNA sequence (transcription).  They then search the nucleus for their matching m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RNA student then leaves the nucleus and uses the genetic code to write down the corresponding amino acids to their RNA sequence (translation). They then search the cytoplasm for their matching t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tRNA student then searches for the                                           special message associated with their                                              polypeptide chain, thus completing                                                    the task.</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1" name="Picture 3" descr=""/>
          <p:cNvPicPr/>
          <p:nvPr/>
        </p:nvPicPr>
        <p:blipFill>
          <a:blip r:embed="rId2"/>
          <a:stretch/>
        </p:blipFill>
        <p:spPr>
          <a:xfrm>
            <a:off x="6048360" y="4836960"/>
            <a:ext cx="3095640" cy="16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220320"/>
            <a:ext cx="7407000" cy="957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Potential Student Difficulties</a:t>
            </a:r>
            <a:endParaRPr b="0" lang="en-US" sz="4300" spc="-1" strike="noStrike">
              <a:solidFill>
                <a:srgbClr val="572314"/>
              </a:solidFill>
              <a:latin typeface="Gill Sans MT"/>
            </a:endParaRPr>
          </a:p>
        </p:txBody>
      </p:sp>
      <p:sp>
        <p:nvSpPr>
          <p:cNvPr id="343" name="PlaceHolder 2"/>
          <p:cNvSpPr>
            <a:spLocks noGrp="1"/>
          </p:cNvSpPr>
          <p:nvPr>
            <p:ph type="subTitle"/>
          </p:nvPr>
        </p:nvSpPr>
        <p:spPr>
          <a:xfrm>
            <a:off x="1357200" y="1193760"/>
            <a:ext cx="6724800" cy="53942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bstract concept – may be hard for students to picture </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membering that in RNA, Thymine is replaced with </a:t>
            </a:r>
            <a:r>
              <a:rPr b="1" lang="en-CA" sz="1800" spc="-1" strike="noStrike">
                <a:solidFill>
                  <a:srgbClr val="320e04"/>
                </a:solidFill>
                <a:latin typeface="Gill Sans MT"/>
              </a:rPr>
              <a:t>Uracil</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the matches between nucleotide bases and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mino acids (i.e., using the genetic code tabl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Distinguishing between DNA and RNA as well as between the roles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f mRNA and tRNA</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mRNA carries coded DNA message</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tRNA carries amino acids</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a stop codon which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ignals for translation to end</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ly 2 tRNA molecules can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ttach to the ribosome at a tim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Polypeptide chain is transferred from</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e tRNA to the other before tRNA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leaves the ribosome</a:t>
            </a:r>
            <a:endParaRPr b="0" lang="en-US" sz="1800" spc="-1" strike="noStrike">
              <a:solidFill>
                <a:srgbClr val="000000"/>
              </a:solidFill>
              <a:latin typeface="Gill Sans MT"/>
            </a:endParaRPr>
          </a:p>
        </p:txBody>
      </p:sp>
      <p:pic>
        <p:nvPicPr>
          <p:cNvPr id="344" name="Picture 2" descr="http://scienceaid.co.uk/biology/genetics/images/translation.jpg"/>
          <p:cNvPicPr/>
          <p:nvPr/>
        </p:nvPicPr>
        <p:blipFill>
          <a:blip r:embed="rId2"/>
          <a:stretch/>
        </p:blipFill>
        <p:spPr>
          <a:xfrm>
            <a:off x="5599080" y="3713040"/>
            <a:ext cx="3397320" cy="237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Rebecca Lostracco</cp:lastModifiedBy>
  <dcterms:modified xsi:type="dcterms:W3CDTF">2011-07-13T10:58:35Z</dcterms:modified>
  <cp:revision>38</cp:revision>
  <dc:subject/>
  <dc:title>Teaching the Concept of Protein Synthesis Rebecca Lostracco Jacqueline McCann</dc:title>
</cp:coreProperties>
</file>